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30BD-C0E7-4D48-BF8D-24885619D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hydrogen ion is actually transfe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red proton binds to an unshared orbital of the second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ter molecule that loses th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only 1 molecule out of 554,000,000 water molecules that is dissoc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orners are orbitals with unshared electrons and a weak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re occupied by hydrogen atoms that hav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4E7-D6F2-4BE6-90FD-FC4C5896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0BF-7807-4EB6-AF32-0BC8CE3A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2D5-99C2-4679-906F-0738E61B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3F5-6ADB-4D53-8BB1-959F4741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C5F-4C42-41D8-A1F9-57D9469D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1FB-BE0D-4F47-9A7A-3C8C75C0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B42-54AA-4BA9-AE71-2ACAFB73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44B-4607-4705-81BE-7BFED370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957-3511-4446-94CD-B577F1BD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F21-824A-462A-828E-D4E26204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D08-E5B9-4139-8D46-DCF23F86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676-42BF-405B-B21F-A1308BA2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4D37-A517-4EEF-905C-BC67F778B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613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bitha"/>
              </a:rPr>
              <a:t>Water – </a:t>
            </a:r>
            <a:r>
              <a:rPr b="1" lang="en-US" sz="5400" spc="-1" strike="noStrike">
                <a:solidFill>
                  <a:srgbClr val="000000"/>
                </a:solidFill>
                <a:latin typeface="Tabitha"/>
              </a:rPr>
              <a:t>Chapter</a:t>
            </a:r>
            <a:r>
              <a:rPr b="1" lang="en-US" sz="6000" spc="-1" strike="noStrike">
                <a:solidFill>
                  <a:srgbClr val="000000"/>
                </a:solidFill>
                <a:latin typeface="Tabitha"/>
              </a:rPr>
              <a:t>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Evaporative Coo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4080" y="15238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oling of a surface occurs when the liquid evapo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rating earth’s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ilizes  temperature in aquatic ec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enting organisms from over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4721400"/>
            <a:ext cx="1760400" cy="213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934320" y="3124080"/>
            <a:ext cx="1904760" cy="167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1792440"/>
            <a:ext cx="24382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ens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dense at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cts until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ands from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to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657600" cy="2560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5840" y="3429000"/>
            <a:ext cx="85723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nsity of w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s water from freezing from the bottom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 forms on the surface first—the freezing of the water releases heat to the water below creating ins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s transition between season less abru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ater reaches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ater becomes locked into a crystalline lattice with each molecule bonded to to the maximum of four part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ce starts to melt, some of the hydrogen bonds break and some water molecules can slip closer together than they can while in the ic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e is about 10% less dense than water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878"/>
          <a:stretch/>
        </p:blipFill>
        <p:spPr>
          <a:xfrm>
            <a:off x="1600200" y="360216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1648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Solvent for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ous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i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compounds dissolve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 molecules (generally) are water sol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ob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polar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st biochemical reactions involve solutes dissolved in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are two important quantitative proprieties of aqueous solu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Concen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Concentration of a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cular weight – sum of the weights of all atoms in a molecule (dal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 – amount of a substance that has a mass in grams numerically equivalent to its molecular weight in dal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gadro’s number – 6.02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le of one substance has the same number of molecules as a mole of any other sub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715000" y="4422600"/>
            <a:ext cx="34290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lar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760" y="1076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ncentration of a material in solution is called its mo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one molar solution has one mole of a substance dissolved in one liter of solvent, typically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89548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ulate a one molar solution of  sucrose,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62916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12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= 1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= 16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61476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x12 = 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x 22 = 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x 11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960" y="52578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2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05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2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asionally, a hydrogen atom shared by two water molecules shifts from one molecule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drogen atom leaves its electron behind and is transferred as a single proton -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gen 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molecule that lost a proton is now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x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ecule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tra prot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ydroniu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ssociation of Wate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7375"/>
          <a:stretch/>
        </p:blipFill>
        <p:spPr>
          <a:xfrm>
            <a:off x="3962520" y="4267080"/>
            <a:ext cx="4806720" cy="160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9520" y="6019920"/>
            <a:ext cx="200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Unnumbered Fig. 3.4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impler way to view this process is that a water molecule dissociates into a hydrogen ion and a hydroxide 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&lt;=&gt;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is rever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 the concentration of water molecules greatly exceeds that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ure water only one water molecule in every 554 million is dissoci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, the concentration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(25°C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ubstance that increases the hydrogen ion concentration in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tance that reduces the hydrogen ion concentration in a solution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bases reduce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acids and bases complete dissociate i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acids and bases dissociate only partially and reversib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981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5322960" y="838080"/>
            <a:ext cx="3821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roperties of Wa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olar molec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ohesion and ad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High specific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Density – greatest at 4</a:t>
            </a:r>
            <a:r>
              <a:rPr b="1" lang="en-US" sz="3600" spc="-1" strike="noStrike" baseline="30000">
                <a:solidFill>
                  <a:srgbClr val="003399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Universal solvent of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181480" y="36194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H Sca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in any aqueous solu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the degree of acidity (0 – 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ologic fluids are in the pH range from 6 –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H unit represents a tenfold difference (scale is logarithm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mall change in pH actually indicates a substantial change in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cent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Probl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w much greater is the [ H</a:t>
            </a:r>
            <a:r>
              <a:rPr b="1" lang="en-US" sz="3200" spc="-1" strike="noStrike" baseline="30000">
                <a:solidFill>
                  <a:srgbClr val="00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] in a solution with pH 2 than in a solution with pH 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733920"/>
            <a:ext cx="7925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2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6 = 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,000,0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,000 times gr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Buff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868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ubstance that eliminates large sudden changes in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ffers help organisms maintain the pH of body fluids within the narrow range necessary for lif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combinations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ceptors and donors forms in a solution of weak acids or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by accep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from solutions when they are in excess and by dona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when they have been dep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Acid Precipi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, snow or fog with more strongly acidic than pH of 5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 Virginia has recorded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t Tennessee reported 4.2 in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when sulfur oxides and nitrogen oxides react with water in the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s pH of soil which affects mineral solubility – decline of 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 pH of lakes and ponds – In the Western Adirondack Mountains, there are lakes with a pH &lt;5 that have no f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16496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914400" cy="1112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181480"/>
            <a:ext cx="1165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Polar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water molecule two hydrogen atoms form single polar covalent bonds with an oxygen atom. Gives water more structure than other 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xygen is more electronegative, the region around oxygen has a partial nega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gion near the two hydrogen atoms has a partial posi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 molecule is a polar molecule with opposite ends of the molecule with opposit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19920" y="4267080"/>
          <a:ext cx="281304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267080"/>
                    <a:ext cx="28130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153280" cy="472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has a variety of unusual properties because of attractions between these polar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ightly negative regions of one molecule are attracted to the slightly positive regions of nearby molecules, forming a hydrogen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ater molecu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orm hydrog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with up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neighb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800600" y="3468600"/>
            <a:ext cx="4038480" cy="306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33920" y="6248520"/>
            <a:ext cx="99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DROGEN 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d water molecule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water molecule can form a maximum of 4 hydrogen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ydrogen bonds joining water molecules are weak, about 1/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s strong as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form, break, and reform with great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aordinary Properties that are a result of hydrogen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hesive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ists changes in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ands when it fre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satile sol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4648320"/>
            <a:ext cx="373392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Organisms Depend on Cohe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is responsible for the transport of the water column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among water molecules plays a key role in the transport of water against gravity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esion, cling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one substance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, contribut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, as water adher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wall of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s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640" y="9144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drogen bonds hold the substance together, a phenomenon called coh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827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face tens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easure of the force necessary to stretch or break the surface of a liquid, is related to 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has a greater surface tension than most other liquids because hydrogen bonds among surface water molecules resist stretching or breaking the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behaves as 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ed by an invi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nimals can stan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, or run on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breaking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6000" t="0" r="10001" b="0"/>
          <a:stretch/>
        </p:blipFill>
        <p:spPr>
          <a:xfrm>
            <a:off x="5410080" y="3429000"/>
            <a:ext cx="3048120" cy="2720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772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derates Temperatures o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kinetic ener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era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or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difference in cal and C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specific 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920" y="2660760"/>
            <a:ext cx="4038480" cy="4120920"/>
            <a:chOff x="304920" y="2660760"/>
            <a:chExt cx="4038480" cy="4120920"/>
          </a:xfrm>
        </p:grpSpPr>
        <p:grpSp>
          <p:nvGrpSpPr>
            <p:cNvPr id="82" name=""/>
            <p:cNvGrpSpPr/>
            <p:nvPr/>
          </p:nvGrpSpPr>
          <p:grpSpPr>
            <a:xfrm>
              <a:off x="308520" y="2665440"/>
              <a:ext cx="4030560" cy="4111560"/>
              <a:chOff x="308520" y="2665440"/>
              <a:chExt cx="4030560" cy="411156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8520" y="2665440"/>
                <a:ext cx="4030560" cy="822240"/>
                <a:chOff x="308520" y="2665440"/>
                <a:chExt cx="4030560" cy="8222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64320" y="2665440"/>
                  <a:ext cx="39182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lsius Scale at Sea Lev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08520" y="2665440"/>
                  <a:ext cx="4030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08520" y="3487680"/>
                <a:ext cx="1171440" cy="822240"/>
                <a:chOff x="308520" y="3487680"/>
                <a:chExt cx="1171440" cy="8222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64320" y="348768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08520" y="348768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479960" y="3487680"/>
                <a:ext cx="2858760" cy="822240"/>
                <a:chOff x="1479960" y="3487680"/>
                <a:chExt cx="2858760" cy="8222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535400" y="348768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boi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479960" y="348768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08520" y="4309920"/>
                <a:ext cx="1171440" cy="822600"/>
                <a:chOff x="308520" y="4309920"/>
                <a:chExt cx="1171440" cy="822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64320" y="4309920"/>
                  <a:ext cx="10591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08520" y="4309920"/>
                  <a:ext cx="117144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1479960" y="4309920"/>
                <a:ext cx="2858760" cy="822600"/>
                <a:chOff x="1479960" y="4309920"/>
                <a:chExt cx="2858760" cy="8226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535400" y="4309920"/>
                  <a:ext cx="2746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uman body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479960" y="4309920"/>
                  <a:ext cx="285876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08520" y="5132520"/>
                <a:ext cx="1171440" cy="822240"/>
                <a:chOff x="308520" y="5132520"/>
                <a:chExt cx="1171440" cy="822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64320" y="513252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8520" y="513252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1479960" y="5132520"/>
                <a:ext cx="2858760" cy="822240"/>
                <a:chOff x="1479960" y="5132520"/>
                <a:chExt cx="2858760" cy="822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535400" y="513252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om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479960" y="513252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08520" y="5954760"/>
                <a:ext cx="1171440" cy="822240"/>
                <a:chOff x="308520" y="5954760"/>
                <a:chExt cx="1171440" cy="8222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64320" y="595476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08520" y="595476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479960" y="5954760"/>
                <a:ext cx="2858760" cy="822240"/>
                <a:chOff x="1479960" y="5954760"/>
                <a:chExt cx="2858760" cy="8222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535400" y="595476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freez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479960" y="595476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04920" y="2660760"/>
              <a:ext cx="4038480" cy="412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0" y="5181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78120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stabilizes air temperatures by absorbing heat from warmer air and releasing heat to cooler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can absorb or release relatively large amounts of heat with only a slight change in its own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1828800"/>
            <a:ext cx="57913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fourths of the earth is covered by water.  The water serves as a large heat sink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ion of temperature fluctuations that are outside the range suitable fo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stal areas having a mild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able marin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Specific Heat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is the amount of heat that must be absorbed or lost for  one gram of a substance to change its temperature by 1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9240" y="2666880"/>
            <a:ext cx="3725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6T22:42:44Z</dcterms:created>
  <dc:creator>Pre-Installed-User</dc:creator>
  <dc:description/>
  <dc:language>en-US</dc:language>
  <cp:lastModifiedBy>User</cp:lastModifiedBy>
  <dcterms:modified xsi:type="dcterms:W3CDTF">2012-01-27T01:47:58Z</dcterms:modified>
  <cp:revision>7</cp:revision>
  <dc:subject/>
  <dc:title>Properties of Water</dc:title>
</cp:coreProperties>
</file>